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A82-E165-4CEA-9DA9-A0497009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1C6-77C1-4A56-ADC5-B16534B9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832-571C-487F-AA6A-F9479084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AB5-03DF-4DC6-8F02-EB63CDEA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1B8-4788-44D1-ACCC-2AA05D95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138-E169-45BF-9820-F0CE1F21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69A-B078-440E-BCE6-B49C177B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710-1AB5-43C9-838A-095695CF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736-EB29-4FE9-BD7D-B2CA0134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AFE-8E3C-4FF8-9946-33CDA5BE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4A1-2628-4F3D-9FE3-8F0F3857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DE4-0DDB-4F80-A24E-A218CBFF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28FB-D578-437D-911A-8A7DD837A9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88000" y="6237000"/>
            <a:ext cx="4140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1763640" y="2781360"/>
            <a:ext cx="6048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c000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</cp:lastModifiedBy>
  <dcterms:modified xsi:type="dcterms:W3CDTF">2013-08-26T06:23:41Z</dcterms:modified>
  <cp:revision>780</cp:revision>
  <dc:subject/>
  <dc:title>Free PPT Backgrounds</dc:title>
</cp:coreProperties>
</file>